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64FA-87C5-4CAB-8A7A-AEE6B5BBB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CCCB-4C62-40B6-90C5-5B4C9631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7F38-DBBD-474E-B9AF-72B3F589A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4E19-E34B-4EDE-A3A1-FA9670F88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815D-E470-47CB-B75F-072EA10EA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C2F6-1C01-4D7A-832D-DBDF26B9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7792-3D64-4CF5-8296-EFEB012F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C1CE-0319-40B9-BF97-3B3EC2A8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EE2E-02DE-4248-BF3B-A5D61CD3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11F2E-5545-42D1-BFE9-AF865876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46E1-295E-43A6-8093-0599E9C9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8F1B-A27A-4614-B049-A3BEEEC3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5893-2338-49B0-B6B3-4858F2F4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285B-A99A-47E6-BC2E-2AE30554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E3B3-1661-4AEB-8C8F-9939A41E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3423-8657-43AF-A699-1278FDDBE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A5BE-65D3-4AA7-8E16-6D496D07B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0B965-51E0-41CE-8C54-611310F67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F1446-A464-4F77-9A5A-C9428255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EDF1D-B3E8-426C-A7D9-28F9E13B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28D55-0853-4FE1-A307-F8E68848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7B3FC-F51B-48C9-A180-0FB56A78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8525-8F8F-47DB-B172-31515156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F898F-57DC-46E3-B19B-79AE3377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36AED-73C8-4198-A971-90950092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4F9ED-D4AA-452E-A2A2-BD580060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24465-39E2-4B7A-9C46-19D48FCA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9D423-F191-4C01-BE70-A208325A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72932-3497-4C53-943A-A53CB9F0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35F63-0C3A-4BBD-8860-01B643C31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EF06C-4FC3-40D4-8072-087B03A77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932B8-CC1E-455F-B00A-38382A5D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A91E1-8F7D-44C4-889F-8FB3FD71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13C4-CFF3-4B24-AF34-1ECC5BD8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76FE5-698E-4C0C-B690-8FACA032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CC9B7-29C9-415B-805C-90B2DA3F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DA3D7-A82B-419B-81FB-4D5A54DB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C49B6-3A16-449C-993D-25B3B3DC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49DF9-170B-495E-93BB-ADEBDD99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8C40D-FB91-4C63-9412-9E2C9586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C69D5-E647-4084-B425-DD2E8DCF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1A90E-5B03-4573-9A28-B8ABADBA6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C2B03-C573-4681-B269-F53D8D43C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3F3D1-F926-4BE4-98F6-B291726C5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61DA-6C69-441E-BD9A-81752888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C4866-03E5-4270-AF4A-BDC68266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CE908-7B59-49C4-8DA9-C8F440D5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46EE3-C004-419F-AE48-28FE816B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846EF-1DAE-4195-9F6A-0CD236E2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764CB-07F3-4D52-A13C-FCB29D61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58A58-17F3-447D-B321-80B17ACB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21E61-42D4-404C-B89D-CA325909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EA900-30BD-4921-8FA2-4EDEA62D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672E1-0784-4F2A-B6E3-10BEE0DF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143B2-BF82-437C-9B1B-AAAE657C1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0DC8-83BD-4C6D-BDE5-A95A5F5C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3AD6F-AE66-4081-948C-75C2F131A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AC07-B79C-4CD3-AF7D-06724CF3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68DA-0064-4896-923D-8087F7CB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47C9-7AC5-406B-8D0D-90BE6812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eb641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5C44-687F-478B-A835-7922929AB66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eb641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E864-E9FC-4E07-AE88-93BD0D3E983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eb641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C14D-6620-4FBC-875D-F701C5BA1B0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eb641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6464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AF47-B009-4BBE-97D5-87B429C8DDA7}" type="slidenum">
              <a:rPr b="0" lang="en-US" sz="1600" spc="-1" strike="noStrike">
                <a:solidFill>
                  <a:srgbClr val="46464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eb641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29D2-0999-46B5-91DB-1FFF868CA2B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LOS APUNTES: DEBER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 rot="19140000">
            <a:off x="1212480" y="2323440"/>
            <a:ext cx="6510240" cy="32868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ung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Franklin Gothic Book"/>
                <a:ea typeface="Tung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unga"/>
              </a:rPr>
              <a:t> YEAR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ung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unga"/>
              </a:rPr>
              <a:t>5.2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Oval 6"/>
          <p:cNvSpPr/>
          <p:nvPr/>
        </p:nvSpPr>
        <p:spPr>
          <a:xfrm>
            <a:off x="3733920" y="6095880"/>
            <a:ext cx="1257120" cy="762120"/>
          </a:xfrm>
          <a:prstGeom prst="ellipse">
            <a:avLst/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Oval 5"/>
          <p:cNvSpPr/>
          <p:nvPr/>
        </p:nvSpPr>
        <p:spPr>
          <a:xfrm>
            <a:off x="2057400" y="5486400"/>
            <a:ext cx="2171880" cy="838080"/>
          </a:xfrm>
          <a:prstGeom prst="ellipse">
            <a:avLst/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JUGATE THE VERB </a:t>
            </a:r>
            <a:r>
              <a:rPr b="0" lang="en-US" sz="2800" spc="-1" strike="noStrike">
                <a:solidFill>
                  <a:srgbClr val="eb641b"/>
                </a:solidFill>
                <a:latin typeface="Franklin Gothic Medium"/>
              </a:rPr>
              <a:t>DEBER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 : </a:t>
            </a:r>
            <a:r>
              <a:rPr b="0" i="1" lang="en-US" sz="2800" spc="-1" strike="noStrike">
                <a:solidFill>
                  <a:srgbClr val="39639d"/>
                </a:solidFill>
                <a:latin typeface="Franklin Gothic Medium"/>
              </a:rPr>
              <a:t>SHOULD/OUG</a:t>
            </a:r>
            <a:r>
              <a:rPr b="0" lang="en-US" sz="2800" spc="-1" strike="noStrike">
                <a:solidFill>
                  <a:srgbClr val="39639d"/>
                </a:solidFill>
                <a:latin typeface="Franklin Gothic Medium"/>
              </a:rPr>
              <a:t>H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04920" y="1295280"/>
          <a:ext cx="8458200" cy="3457800"/>
        </p:xfrm>
        <a:graphic>
          <a:graphicData uri="http://schemas.openxmlformats.org/drawingml/2006/table">
            <a:tbl>
              <a:tblPr/>
              <a:tblGrid>
                <a:gridCol w="4228920"/>
                <a:gridCol w="4229280"/>
              </a:tblGrid>
              <a:tr h="1079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Franklin Gothic 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Franklin Gothic Book"/>
                        </a:rPr>
                        <a:t>Yo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DEB</a:t>
                      </a:r>
                      <a:r>
                        <a:rPr b="1" lang="en-US" sz="2400" spc="-1" strike="noStrike">
                          <a:solidFill>
                            <a:srgbClr val="39639d"/>
                          </a:solidFill>
                          <a:latin typeface="Franklin Gothic Book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b641b"/>
                          </a:solidFill>
                          <a:latin typeface="Franklin Gothic Book"/>
                        </a:rPr>
                        <a:t>I shou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d1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Franklin Gothic Book"/>
                        </a:rPr>
                        <a:t>Nosotros(as)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DEB</a:t>
                      </a:r>
                      <a:r>
                        <a:rPr b="1" lang="en-US" sz="2400" spc="-1" strike="noStrike">
                          <a:solidFill>
                            <a:srgbClr val="39639d"/>
                          </a:solidFill>
                          <a:latin typeface="Franklin Gothic Book"/>
                        </a:rPr>
                        <a:t>EM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b641b"/>
                          </a:solidFill>
                          <a:latin typeface="Franklin Gothic Book"/>
                        </a:rPr>
                        <a:t>We shou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d1d3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Franklin Gothic 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Franklin Gothic 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Franklin Gothic Book"/>
                        </a:rPr>
                        <a:t>T</a:t>
                      </a:r>
                      <a:r>
                        <a:rPr b="1" lang="es-ES_tradnl" sz="2000" spc="-1" strike="noStrike">
                          <a:solidFill>
                            <a:srgbClr val="008000"/>
                          </a:solidFill>
                          <a:latin typeface="Franklin Gothic Book"/>
                        </a:rPr>
                        <a:t>ú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DEB</a:t>
                      </a:r>
                      <a:r>
                        <a:rPr b="1" lang="en-US" sz="2400" spc="-1" strike="noStrike">
                          <a:solidFill>
                            <a:srgbClr val="39639d"/>
                          </a:solidFill>
                          <a:latin typeface="Franklin Gothic Book"/>
                        </a:rPr>
                        <a:t>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b641b"/>
                          </a:solidFill>
                          <a:latin typeface="Franklin Gothic Book"/>
                        </a:rPr>
                        <a:t>You (singular/familiar) shou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cc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Franklin Gothic Book"/>
                        </a:rPr>
                        <a:t>Vosotros (as)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 DEB</a:t>
                      </a:r>
                      <a:r>
                        <a:rPr b="1" lang="es-ES_tradnl" sz="2400" spc="-1" strike="noStrike">
                          <a:solidFill>
                            <a:srgbClr val="39639d"/>
                          </a:solidFill>
                          <a:latin typeface="Franklin Gothic Book"/>
                        </a:rPr>
                        <a:t>É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b641b"/>
                          </a:solidFill>
                          <a:latin typeface="Franklin Gothic Book"/>
                        </a:rPr>
                        <a:t>You all (plural/familiar) shou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cccd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8000"/>
                          </a:solidFill>
                          <a:latin typeface="Franklin Gothic Book"/>
                        </a:rPr>
                        <a:t>Él, Ella, Usted    </a:t>
                      </a: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DEB</a:t>
                      </a:r>
                      <a:r>
                        <a:rPr b="1" lang="es-ES_tradnl" sz="2400" spc="-1" strike="noStrike">
                          <a:solidFill>
                            <a:srgbClr val="39639d"/>
                          </a:solidFill>
                          <a:latin typeface="Franklin Gothic Book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b641b"/>
                          </a:solidFill>
                          <a:latin typeface="Franklin Gothic Book"/>
                        </a:rPr>
                        <a:t>He, She, You (singular/formal) shoul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e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8000"/>
                          </a:solidFill>
                          <a:latin typeface="Franklin Gothic Book"/>
                        </a:rPr>
                        <a:t>Ellos(as), Ustedes </a:t>
                      </a: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DEB</a:t>
                      </a:r>
                      <a:r>
                        <a:rPr b="1" lang="es-ES_tradnl" sz="2400" spc="-1" strike="noStrike">
                          <a:solidFill>
                            <a:srgbClr val="39639d"/>
                          </a:solidFill>
                          <a:latin typeface="Franklin Gothic Book"/>
                        </a:rPr>
                        <a:t>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b641b"/>
                          </a:solidFill>
                          <a:latin typeface="Franklin Gothic Book"/>
                        </a:rPr>
                        <a:t>They, You all (plural, formal) shoul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e7e8"/>
                    </a:solidFill>
                  </a:tcPr>
                </a:tc>
              </a:tr>
            </a:tbl>
          </a:graphicData>
        </a:graphic>
      </p:graphicFrame>
      <p:sp>
        <p:nvSpPr>
          <p:cNvPr id="221" name="TextBox 4"/>
          <p:cNvSpPr/>
          <p:nvPr/>
        </p:nvSpPr>
        <p:spPr>
          <a:xfrm>
            <a:off x="1295280" y="4843440"/>
            <a:ext cx="7925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What type of verb is DEBER? 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1" lang="es-ES_tradnl" sz="4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Regular or Irregular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1" lang="es-ES_tradnl" sz="4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- ar     – er      – ir 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8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USING THE VERB </a:t>
            </a:r>
            <a:r>
              <a:rPr b="0" lang="en-US" sz="2800" spc="-1" strike="noStrike">
                <a:solidFill>
                  <a:srgbClr val="da1f28"/>
                </a:solidFill>
                <a:latin typeface="Franklin Gothic Medium"/>
              </a:rPr>
              <a:t>DEBER 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TO TALK ABOUT WHAT PEOPLE SHOULD/OUGHT TO DO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762120"/>
            <a:ext cx="8229600" cy="14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200" spc="-1" strike="noStrike">
                <a:solidFill>
                  <a:srgbClr val="da1f28"/>
                </a:solidFill>
                <a:latin typeface="Franklin Gothic Book"/>
              </a:rPr>
              <a:t>Deber</a:t>
            </a:r>
            <a:r>
              <a:rPr b="1" lang="es-ES_tradnl" sz="72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en-US" sz="7200" spc="-1" strike="noStrike">
                <a:solidFill>
                  <a:srgbClr val="000000"/>
                </a:solidFill>
                <a:latin typeface="Franklin Gothic Book"/>
              </a:rPr>
              <a:t>+   </a:t>
            </a:r>
            <a:r>
              <a:rPr b="1" lang="en-US" sz="7200" spc="-1" strike="noStrike">
                <a:solidFill>
                  <a:srgbClr val="2da2bf"/>
                </a:solidFill>
                <a:latin typeface="Franklin Gothic Book"/>
              </a:rPr>
              <a:t>Infinitive </a:t>
            </a:r>
            <a:endParaRPr b="1" lang="en-US" sz="7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Content Placeholder 2"/>
          <p:cNvSpPr/>
          <p:nvPr/>
        </p:nvSpPr>
        <p:spPr>
          <a:xfrm>
            <a:off x="1752480" y="1828800"/>
            <a:ext cx="7162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3000" indent="-11430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b641b"/>
                </a:solidFill>
                <a:latin typeface="Franklin Gothic Book"/>
              </a:rPr>
              <a:t>Ejemplo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1143000" indent="-11430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ranklin Gothic Book"/>
              </a:rPr>
              <a:t>1. Yo </a:t>
            </a:r>
            <a:r>
              <a:rPr b="1" lang="es-ES_tradnl" sz="2400" spc="-1" strike="noStrike">
                <a:solidFill>
                  <a:srgbClr val="da1f28"/>
                </a:solidFill>
                <a:latin typeface="Franklin Gothic Book"/>
              </a:rPr>
              <a:t>debo</a:t>
            </a:r>
            <a:r>
              <a:rPr b="1" lang="es-ES_tradnl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s-ES_tradnl" sz="2400" spc="-1" strike="noStrike">
                <a:solidFill>
                  <a:srgbClr val="2da2bf"/>
                </a:solidFill>
                <a:latin typeface="Franklin Gothic Book"/>
              </a:rPr>
              <a:t>pedir</a:t>
            </a:r>
            <a:r>
              <a:rPr b="1" lang="es-ES_tradnl" sz="2400" spc="-1" strike="noStrike">
                <a:solidFill>
                  <a:srgbClr val="000000"/>
                </a:solidFill>
                <a:latin typeface="Franklin Gothic Book"/>
              </a:rPr>
              <a:t> una limonad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1143000" indent="-11430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ranklin Gothic Book"/>
              </a:rPr>
              <a:t>I should order a lemonade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1143000" indent="-11430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ranklin Gothic Book"/>
              </a:rPr>
              <a:t>2. Tú </a:t>
            </a:r>
            <a:r>
              <a:rPr b="1" lang="es-ES_tradnl" sz="2400" spc="-1" strike="noStrike">
                <a:solidFill>
                  <a:srgbClr val="da1f28"/>
                </a:solidFill>
                <a:latin typeface="Franklin Gothic Book"/>
              </a:rPr>
              <a:t>debes </a:t>
            </a:r>
            <a:r>
              <a:rPr b="1" lang="es-ES_tradnl" sz="2400" spc="-1" strike="noStrike">
                <a:solidFill>
                  <a:srgbClr val="2da2bf"/>
                </a:solidFill>
                <a:latin typeface="Franklin Gothic Book"/>
              </a:rPr>
              <a:t>barrer</a:t>
            </a:r>
            <a:r>
              <a:rPr b="1" lang="es-ES_tradnl" sz="2400" spc="-1" strike="noStrike">
                <a:solidFill>
                  <a:srgbClr val="000000"/>
                </a:solidFill>
                <a:latin typeface="Franklin Gothic Book"/>
              </a:rPr>
              <a:t> el suelo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1143000" indent="-11430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ranklin Gothic Book"/>
              </a:rPr>
              <a:t>You (singular/familiar) should sweep the floor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1143000" indent="-11430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ranklin Gothic Book"/>
              </a:rPr>
              <a:t>3. Usted </a:t>
            </a:r>
            <a:r>
              <a:rPr b="1" lang="es-ES_tradnl" sz="2400" spc="-1" strike="noStrike">
                <a:solidFill>
                  <a:srgbClr val="da1f28"/>
                </a:solidFill>
                <a:latin typeface="Franklin Gothic Book"/>
              </a:rPr>
              <a:t>debe </a:t>
            </a:r>
            <a:r>
              <a:rPr b="1" lang="es-ES_tradnl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s-ES_tradnl" sz="2400" spc="-1" strike="noStrike">
                <a:solidFill>
                  <a:srgbClr val="2da2bf"/>
                </a:solidFill>
                <a:latin typeface="Franklin Gothic Book"/>
              </a:rPr>
              <a:t>llamar</a:t>
            </a:r>
            <a:r>
              <a:rPr b="1" lang="es-ES_tradnl" sz="2400" spc="-1" strike="noStrike">
                <a:solidFill>
                  <a:srgbClr val="000000"/>
                </a:solidFill>
                <a:latin typeface="Franklin Gothic Book"/>
              </a:rPr>
              <a:t>me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1143000" indent="-11430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ranklin Gothic Book"/>
              </a:rPr>
              <a:t>You (singular/formal) should call me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Medium"/>
              </a:rPr>
              <a:t>MÁS PRÁCTICA – ¡TRADUCE!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66760" y="992160"/>
            <a:ext cx="86486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ranklin Gothic Book"/>
              </a:rPr>
              <a:t>She should bring the appetizers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b641b"/>
                </a:solidFill>
                <a:latin typeface="Franklin Gothic Book"/>
              </a:rPr>
              <a:t>Ella debe traer las tapas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ranklin Gothic Book"/>
              </a:rPr>
              <a:t>2. They should go to the park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b641b"/>
                </a:solidFill>
                <a:latin typeface="Franklin Gothic Book"/>
              </a:rPr>
              <a:t>Ellos deben ir al parque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ranklin Gothic Book"/>
              </a:rPr>
              <a:t>3. I should wake up (myself) before six in the morning.  </a:t>
            </a:r>
            <a:r>
              <a:rPr b="1" lang="es-ES_tradnl" sz="2000" spc="-1" strike="noStrike">
                <a:solidFill>
                  <a:srgbClr val="000000"/>
                </a:solidFill>
                <a:latin typeface="Franklin Gothic Book"/>
              </a:rPr>
              <a:t>(Hint: Use a reflexive verb AND reflexive pronoun)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b641b"/>
                </a:solidFill>
                <a:latin typeface="Franklin Gothic Book"/>
              </a:rPr>
              <a:t>Yo debo despertarme antes de las seis de la mañana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ranklin Gothic Book"/>
              </a:rPr>
              <a:t>4. You (plural/formal) should leave from the school early today. 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b641b"/>
                </a:solidFill>
                <a:latin typeface="Franklin Gothic Book"/>
              </a:rPr>
              <a:t>Ustedes deben salir de la escuela temprano hoy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LA PR</a:t>
            </a:r>
            <a:r>
              <a:rPr b="0" lang="es-ES_tradnl" sz="2800" spc="-1" strike="noStrike">
                <a:solidFill>
                  <a:srgbClr val="000000"/>
                </a:solidFill>
                <a:latin typeface="Franklin Gothic Medium"/>
              </a:rPr>
              <a:t>ÁCTICA CON LAS PIZARRA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22240" y="83808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da1f28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da1f28"/>
                </a:solidFill>
                <a:latin typeface="Franklin Gothic Book"/>
              </a:rPr>
              <a:t>You should clean your room!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1280" indent="-138960">
              <a:spcBef>
                <a:spcPts val="300"/>
              </a:spcBef>
              <a:buClr>
                <a:srgbClr val="da1f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¡Debes limpiar tu cuarto!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291600" indent="-291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da1f28"/>
                </a:solidFill>
                <a:latin typeface="Franklin Gothic Book"/>
              </a:rPr>
              <a:t>2. We should eat in the kitchen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1280" indent="-138960">
              <a:spcBef>
                <a:spcPts val="300"/>
              </a:spcBef>
              <a:buClr>
                <a:srgbClr val="da1f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Nosotros debemos comer en la cocina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291600" indent="-291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da1f28"/>
                </a:solidFill>
                <a:latin typeface="Franklin Gothic Book"/>
              </a:rPr>
              <a:t>3. They should buy two tables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1280" indent="-138960">
              <a:spcBef>
                <a:spcPts val="300"/>
              </a:spcBef>
              <a:buClr>
                <a:srgbClr val="da1f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Ellos deben comprar dos mesas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291600" indent="-291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da1f28"/>
                </a:solidFill>
                <a:latin typeface="Franklin Gothic Book"/>
              </a:rPr>
              <a:t>4. You (formal, singular) should sweep the floor quickly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1280" indent="-138960">
              <a:spcBef>
                <a:spcPts val="300"/>
              </a:spcBef>
              <a:buClr>
                <a:srgbClr val="da1f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Usted debe barrer el suelo rápidamente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Medium"/>
              </a:rPr>
              <a:t>LA PRÁCTICA CON LAS PIZARRA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0520" y="1100160"/>
            <a:ext cx="84582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2" marL="381600" indent="-155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b641b"/>
                </a:solidFill>
                <a:latin typeface="Franklin Gothic Book"/>
              </a:rPr>
              <a:t>1. He should iron the clothing carefully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1600" indent="-155520">
              <a:spcBef>
                <a:spcPts val="300"/>
              </a:spcBef>
              <a:buClr>
                <a:srgbClr val="da1f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Él debe planchar la ropa cuidadosamente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1600" indent="-155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b641b"/>
                </a:solidFill>
                <a:latin typeface="Franklin Gothic Book"/>
              </a:rPr>
              <a:t>2. I should arrange the books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1600" indent="-155520">
              <a:spcBef>
                <a:spcPts val="300"/>
              </a:spcBef>
              <a:buClr>
                <a:srgbClr val="da1f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Yo debo ordenar los libros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1600" indent="-155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b641b"/>
                </a:solidFill>
                <a:latin typeface="Franklin Gothic Book"/>
              </a:rPr>
              <a:t>3. You all (Spain) should vaccuum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1600" indent="-155520">
              <a:spcBef>
                <a:spcPts val="300"/>
              </a:spcBef>
              <a:buClr>
                <a:srgbClr val="da1f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Vosotros debéis pasar la aspiradora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1600" indent="-155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b641b"/>
                </a:solidFill>
                <a:latin typeface="Franklin Gothic Book"/>
              </a:rPr>
              <a:t>4. She should order olives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1600" indent="-155520">
              <a:spcBef>
                <a:spcPts val="300"/>
              </a:spcBef>
              <a:buClr>
                <a:srgbClr val="da1f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Ella debe pedir las aceitunas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8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8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8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8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3" dur="500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Medium"/>
              </a:rPr>
              <a:t>MÁS PRÁCTICA…MÁS DIFÍCIL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838080"/>
            <a:ext cx="788688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da1f28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da1f28"/>
                </a:solidFill>
                <a:latin typeface="Franklin Gothic Book"/>
              </a:rPr>
              <a:t>You should eat it! (potato omlet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Tú debes comer</a:t>
            </a:r>
            <a:r>
              <a:rPr b="0" lang="es-ES_tradnl" sz="2800" spc="-1" strike="noStrike">
                <a:solidFill>
                  <a:srgbClr val="eb641b"/>
                </a:solidFill>
                <a:latin typeface="Franklin Gothic Book"/>
              </a:rPr>
              <a:t>la</a:t>
            </a: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. </a:t>
            </a:r>
            <a:r>
              <a:rPr b="0" lang="es-ES_tradnl" sz="2800" spc="-1" strike="noStrike">
                <a:solidFill>
                  <a:srgbClr val="eb641b"/>
                </a:solidFill>
                <a:latin typeface="Franklin Gothic Book"/>
              </a:rPr>
              <a:t>La </a:t>
            </a: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debes comer.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a1f28"/>
                </a:solidFill>
                <a:latin typeface="Franklin Gothic Book"/>
              </a:rPr>
              <a:t>2. </a:t>
            </a:r>
            <a:r>
              <a:rPr b="1" lang="es-ES_tradnl" sz="2800" spc="-1" strike="noStrike">
                <a:solidFill>
                  <a:srgbClr val="da1f28"/>
                </a:solidFill>
                <a:latin typeface="Franklin Gothic Book"/>
              </a:rPr>
              <a:t>They should send </a:t>
            </a:r>
            <a:r>
              <a:rPr b="1" i="1" lang="es-ES_tradnl" sz="2800" spc="-1" strike="noStrike">
                <a:solidFill>
                  <a:srgbClr val="2da2bf"/>
                </a:solidFill>
                <a:latin typeface="Franklin Gothic Book"/>
              </a:rPr>
              <a:t>mandar</a:t>
            </a:r>
            <a:r>
              <a:rPr b="1" i="1" lang="es-ES_tradnl" sz="2800" spc="-1" strike="noStrike">
                <a:solidFill>
                  <a:srgbClr val="da1f28"/>
                </a:solidFill>
                <a:latin typeface="Franklin Gothic Book"/>
              </a:rPr>
              <a:t> </a:t>
            </a:r>
            <a:r>
              <a:rPr b="1" lang="es-ES_tradnl" sz="2800" spc="-1" strike="noStrike">
                <a:solidFill>
                  <a:srgbClr val="da1f28"/>
                </a:solidFill>
                <a:latin typeface="Franklin Gothic Book"/>
              </a:rPr>
              <a:t>them. (the invitations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Ellos deben mandar</a:t>
            </a:r>
            <a:r>
              <a:rPr b="0" lang="es-ES_tradnl" sz="2800" spc="-1" strike="noStrike">
                <a:solidFill>
                  <a:srgbClr val="eb641b"/>
                </a:solidFill>
                <a:latin typeface="Franklin Gothic Book"/>
              </a:rPr>
              <a:t>las</a:t>
            </a: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. Ellos </a:t>
            </a:r>
            <a:r>
              <a:rPr b="0" lang="es-ES_tradnl" sz="2800" spc="-1" strike="noStrike">
                <a:solidFill>
                  <a:srgbClr val="eb641b"/>
                </a:solidFill>
                <a:latin typeface="Franklin Gothic Book"/>
              </a:rPr>
              <a:t>las</a:t>
            </a: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 deben mandar.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da1f28"/>
                </a:solidFill>
                <a:latin typeface="Franklin Gothic Book"/>
              </a:rPr>
              <a:t>3. I should sweep it! (the floor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Yo debo barrer</a:t>
            </a:r>
            <a:r>
              <a:rPr b="0" lang="es-ES_tradnl" sz="2800" spc="-1" strike="noStrike">
                <a:solidFill>
                  <a:srgbClr val="eb641b"/>
                </a:solidFill>
                <a:latin typeface="Franklin Gothic Book"/>
              </a:rPr>
              <a:t>lo</a:t>
            </a: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. Yo </a:t>
            </a:r>
            <a:r>
              <a:rPr b="0" lang="es-ES_tradnl" sz="2800" spc="-1" strike="noStrike">
                <a:solidFill>
                  <a:srgbClr val="eb641b"/>
                </a:solidFill>
                <a:latin typeface="Franklin Gothic Book"/>
              </a:rPr>
              <a:t>lo</a:t>
            </a: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 debo barrer.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da1f28"/>
                </a:solidFill>
                <a:latin typeface="Franklin Gothic Book"/>
              </a:rPr>
              <a:t>4. She should take it out. (the trash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Ella deber sacar</a:t>
            </a:r>
            <a:r>
              <a:rPr b="0" lang="es-ES_tradnl" sz="2800" spc="-1" strike="noStrike">
                <a:solidFill>
                  <a:srgbClr val="eb641b"/>
                </a:solidFill>
                <a:latin typeface="Franklin Gothic Book"/>
              </a:rPr>
              <a:t>la</a:t>
            </a: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. Ella </a:t>
            </a:r>
            <a:r>
              <a:rPr b="0" lang="es-ES_tradnl" sz="2800" spc="-1" strike="noStrike">
                <a:solidFill>
                  <a:srgbClr val="eb641b"/>
                </a:solidFill>
                <a:latin typeface="Franklin Gothic Book"/>
              </a:rPr>
              <a:t>la</a:t>
            </a: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 debe sacar.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3581280" y="5211720"/>
          <a:ext cx="5334120" cy="1554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Me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- 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os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– 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e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– you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Os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– you 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Lo, La 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-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Los, Las 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- th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pic>
        <p:nvPicPr>
          <p:cNvPr id="234" name="Rectangle 4" descr=""/>
          <p:cNvPicPr/>
          <p:nvPr/>
        </p:nvPicPr>
        <p:blipFill>
          <a:blip r:embed="rId1"/>
          <a:stretch/>
        </p:blipFill>
        <p:spPr>
          <a:xfrm>
            <a:off x="201600" y="5241960"/>
            <a:ext cx="3059280" cy="1403280"/>
          </a:xfrm>
          <a:prstGeom prst="rect">
            <a:avLst/>
          </a:prstGeom>
          <a:ln w="0">
            <a:noFill/>
          </a:ln>
        </p:spPr>
      </p:pic>
      <p:cxnSp>
        <p:nvCxnSpPr>
          <p:cNvPr id="235" name="Straight Arrow Connector 11"/>
          <p:cNvCxnSpPr/>
          <p:nvPr/>
        </p:nvCxnSpPr>
        <p:spPr>
          <a:xfrm flipV="1">
            <a:off x="2819520" y="6247800"/>
            <a:ext cx="915120" cy="153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36" name="Rectangle 15" descr=""/>
          <p:cNvPicPr/>
          <p:nvPr/>
        </p:nvPicPr>
        <p:blipFill>
          <a:blip r:embed="rId2"/>
          <a:stretch/>
        </p:blipFill>
        <p:spPr>
          <a:xfrm>
            <a:off x="6534000" y="249120"/>
            <a:ext cx="238464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17:29:35Z</dcterms:created>
  <dc:creator>Heffernen, Heather</dc:creator>
  <dc:description/>
  <dc:language>en-US</dc:language>
  <cp:lastModifiedBy>Prine, Stephanie</cp:lastModifiedBy>
  <dcterms:modified xsi:type="dcterms:W3CDTF">2013-11-04T17:11:33Z</dcterms:modified>
  <cp:revision>17</cp:revision>
  <dc:subject/>
  <dc:title>Los Apuntes: DEBER</dc:title>
</cp:coreProperties>
</file>